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7C30-76AE-4054-8205-0B1CF84F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3E7F-9876-4F60-8CD2-3423EA46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87F4-9A34-4779-994C-2AC14846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40FC-B5C8-4D36-9077-AE018309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78F8-77EC-490B-8599-AAFE725F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976C-16D8-4A9D-9ADB-AAC8F6DC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464C-1E40-4B5C-843B-822ECB20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52C3-9B13-4934-931A-CF970341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1E92-BBE2-405B-ABE5-059D3157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9887-0934-4F56-87EA-1A0D4077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C185-C179-4197-8B23-DB6DA749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6AE7-253A-46E6-B888-2B41289C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46F0-BC65-49D9-B162-DA524EBFD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27.xml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ell Review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3886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animl cell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259056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51055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LECTIVELY PERMEABLE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OR Semi-permeabl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2590920"/>
            <a:ext cx="883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scribes a membrane that allows certain molecules to pass through but keeps others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51055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rista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26668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folded inner membrane inside mitochondr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105520"/>
            <a:ext cx="952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gral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259092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roteins that stick either part way or all the way into a cell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embran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ll Differenc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4800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ar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cteri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7280" y="2411280"/>
            <a:ext cx="813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LANT    ANIMAL    BAC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ich are prokaryot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ll Differenc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51055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ELL WALL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2590920"/>
            <a:ext cx="7620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layer found outside of the cell membrane in plants and bacter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ll Differenc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55627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 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ACUO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1981080"/>
            <a:ext cx="762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organelle that acts as a storage space. It is larger in plant cells and smaller in animal cell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ll Differenc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51055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LL D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ll cells have a cell membra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236232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NT    ANIMAL    BACTE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have a cell membra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ll Differenc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495288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ar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ants and Bacte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2286000"/>
            <a:ext cx="883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LANT    ANIMAL    BAC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ich have a cell wa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cture ID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a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itochondri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205740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72120" y="2057400"/>
            <a:ext cx="460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organel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s a folded inner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mbrane and prov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nergy for cell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505320" cy="1736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32920" y="6400080"/>
            <a:ext cx="4315320" cy="246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Times New Roman"/>
              </a:rPr>
              <a:t>http://www.emc.maricopa.edu/faculty/farabee/BIOBK/BioBookCELL2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cture ID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54100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ough E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33920" y="2133720"/>
            <a:ext cx="4800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organelle has ribosomes attached and transports the proteins it makes to the Golg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Smooth Endoplasmic Reticulum"/>
          <p:cNvPicPr/>
          <p:nvPr/>
        </p:nvPicPr>
        <p:blipFill>
          <a:blip r:embed="rId1"/>
          <a:srcRect l="0" t="0" r="0" b="12497"/>
          <a:stretch/>
        </p:blipFill>
        <p:spPr>
          <a:xfrm>
            <a:off x="762120" y="2057400"/>
            <a:ext cx="2309760" cy="26668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27880" y="6400080"/>
            <a:ext cx="2962080" cy="246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Arial"/>
              </a:rPr>
              <a:t>http://www.biology4kids.com/files/cell_er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ell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152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ctu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I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s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295280"/>
            <a:ext cx="9144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8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2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3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14" action="ppaction://hlinksldjump"/>
          </p:cNvPr>
          <p:cNvSpPr/>
          <p:nvPr/>
        </p:nvSpPr>
        <p:spPr>
          <a:xfrm>
            <a:off x="73152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cture ID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56386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a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lagellu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29200" y="2057400"/>
            <a:ext cx="3429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organelle is made of microtubules and helps the cell mo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flagella1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3581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cture ID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57913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Golgi apparatus (body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1981080"/>
            <a:ext cx="4496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organelle looks like a stack of pancakes and modifies, sorts, and packages molecules for storage or expor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27503" r="0" b="0"/>
          <a:stretch/>
        </p:blipFill>
        <p:spPr>
          <a:xfrm>
            <a:off x="228600" y="2362320"/>
            <a:ext cx="3911760" cy="21272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1200" y="6400080"/>
            <a:ext cx="4620240" cy="246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Arial"/>
              </a:rPr>
              <a:t>http://www.science.siu.edu/plant-biology/PLB117/JPEGs%20CD/0074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cture ID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54100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a chloroplas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2057400"/>
            <a:ext cx="502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plastid is found in plants and contains the enzymes for photosynthes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921120" cy="20001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27520" y="6400080"/>
            <a:ext cx="4620240" cy="246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Arial"/>
              </a:rPr>
              <a:t>http://www.science.siu.edu/plant-biology/PLB117/JPEGs%20CD/0076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10552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o ar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bert Hooke, Anton von Leeuwenhoe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tthias Schleiden, Theodor Schwann, Rudolph Virc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205740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ame 2 of the scientists who contributed to our understanding of the CELL 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3680" y="242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51814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T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335268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ame this molecule used by mitochondria to store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8240" y="6461280"/>
            <a:ext cx="105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Image by Ried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419720" y="1143000"/>
            <a:ext cx="43434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56386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OPTOS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259092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9320" y="2514600"/>
            <a:ext cx="748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grammed death of a cel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r the good of the orga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?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4800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a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2057400"/>
            <a:ext cx="7772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cell is the largest.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nt       Animal      Bacter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4724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: What is a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karyot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2057400"/>
            <a:ext cx="762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ind of cell that has a cell membrane, DNA, and ribosomes, but no other organelles surrounded by membra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Organelle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590920"/>
            <a:ext cx="807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ilayer (made of lipids and proteins) surrounds the outside of all ce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51055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Cell membran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Organelle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nucleu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590920"/>
            <a:ext cx="7620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organelle is the “control center” of the cell and contains its D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Organelle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itochondria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133720"/>
            <a:ext cx="883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organelle is the “power plant” of the cell burning glucose and storing its energy as AT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Organelle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on the ribosom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25909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where proteins are mad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Organelle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a lysosom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2590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a sac of digestive enzy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51055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 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UKARYOT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2514600"/>
            <a:ext cx="6019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5760" y="2286000"/>
            <a:ext cx="676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 cell that has a nucleus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organelles surrounde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y membra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HROMATI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590920"/>
            <a:ext cx="7620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NA and proteins spread out in the nucleus of a non-dividing ce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6T17:56:44Z</dcterms:created>
  <dc:creator>Ken Martin</dc:creator>
  <dc:description/>
  <dc:language>en-US</dc:language>
  <cp:lastModifiedBy>riedellke</cp:lastModifiedBy>
  <dcterms:modified xsi:type="dcterms:W3CDTF">2006-10-03T16:01:53Z</dcterms:modified>
  <cp:revision>82</cp:revision>
  <dc:subject/>
  <dc:title>Semester 2</dc:title>
</cp:coreProperties>
</file>